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F96C3E-CD49-4C5E-9A7B-5186B67FC4B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4BFD-FFAB-4E27-A40A-E947A829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D73B-5DAD-483D-9D3E-E48120F0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17E-F9E0-47CB-81D3-76C9C3EA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5411-C255-4B14-8E70-67D9FE6E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A1F7-AF53-4200-9F9E-9861AC5E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844C-9997-467B-BCB7-62FA834E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9993-8334-4578-9A3C-A33D9496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A3A8-1718-4FD5-AE53-DE898814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1AF2-A94F-46C6-AF88-0FBE547F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ED57-E646-4957-88FE-7AC369CA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5DD8-CD39-4C81-8C14-33E4527B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C929-2B63-4258-A933-A147CA9F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AB9C-C3FF-4263-878F-52123A72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AC1C-6195-4B4B-932D-58EF48EB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3F04-6E19-4264-8085-AFF97115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F6A3-22F4-4BF4-B1A3-27299827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816E-9EC3-4171-A889-E2E961A8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3A0D-3F1C-4216-8D4F-119FD9ED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EACF-92E7-4765-9544-09D3874D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C087-22F8-401A-8B25-09979A49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DDB8-6527-4325-87D9-EE05DFC3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D9DE-E406-4632-B842-DBD97A23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1629-E32B-40F7-BC0B-0D8D34AC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12B0-85C6-451A-95A3-14294C87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0D7B-FBA9-46A0-ADF2-57902B10ED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4F30-A226-4C6A-A76A-BA8853F9EA64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Latent Semantic Indexing</a:t>
            </a:r>
            <a:br>
              <a:rPr sz="3600"/>
            </a:br>
            <a:r>
              <a:rPr b="0" i="1" lang="en-US" sz="2000" spc="-1" strike="noStrike">
                <a:solidFill>
                  <a:srgbClr val="c00000"/>
                </a:solidFill>
                <a:latin typeface="Lucida Sans"/>
              </a:rPr>
              <a:t>(mapping onto a smaller space of latent concept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5796000" y="6308640"/>
            <a:ext cx="3348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1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ed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38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R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s the doc-matrix k x n, hence reduced to k di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Since we are interested in doc/q correlation, we consider: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=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=(P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(P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 = (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Approx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with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, thus get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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k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k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(both are n x n matr.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lnSpc>
                <a:spcPct val="110000"/>
              </a:lnSpc>
              <a:spcBef>
                <a:spcPts val="25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us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o define how to project A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and Q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ubstitute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, so ge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 fact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which is a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k x m matri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s means that to reduce a doc/query vector is enough to multiply it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us paying O(km) per doc/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lnSpc>
                <a:spcPct val="90000"/>
              </a:lnSpc>
              <a:spcBef>
                <a:spcPts val="1925"/>
              </a:spcBef>
              <a:spcAft>
                <a:spcPts val="550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Lucida Sans"/>
              </a:rPr>
              <a:t>Cost of sim(q,d), for all d, is O(kn+km) instead of O(m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6012000" y="0"/>
            <a:ext cx="2952720" cy="1341360"/>
          </a:xfrm>
          <a:prstGeom prst="wedgeRoundRectCallout">
            <a:avLst>
              <a:gd name="adj1" fmla="val -16398"/>
              <a:gd name="adj2" fmla="val -4839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6119640" y="260280"/>
            <a:ext cx="302436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R,P are formed by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orthonormal eigenvector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of the matrices D,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ich are the concepts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-th concept = c-th row of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t    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(which is k x m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Denote it by P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[c], whose size is </a:t>
            </a:r>
            <a:r>
              <a:rPr b="0" i="1" lang="en-US" sz="2500" spc="-1" strike="noStrike">
                <a:solidFill>
                  <a:srgbClr val="000000"/>
                </a:solidFill>
                <a:latin typeface="Lucida Sans"/>
              </a:rPr>
              <a:t>m = #terms</a:t>
            </a: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[c][i] = strength of association between c-th concept and i-th term</a:t>
            </a: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-31212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ojected document: d</a:t>
            </a:r>
            <a:r>
              <a:rPr b="0" lang="ja-JP" sz="28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ja-JP" sz="25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"/>
              </a:rPr>
              <a:t>j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[c] = </a:t>
            </a:r>
            <a:r>
              <a:rPr b="0" lang="en-US" sz="2500" spc="-1" strike="noStrike">
                <a:solidFill>
                  <a:srgbClr val="cc0000"/>
                </a:solidFill>
                <a:latin typeface="Lucida Sans"/>
              </a:rPr>
              <a:t>strenght of concept </a:t>
            </a:r>
            <a:r>
              <a:rPr b="0" i="1" lang="en-US" sz="2500" spc="-1" strike="noStrike">
                <a:solidFill>
                  <a:srgbClr val="cc0000"/>
                </a:solidFill>
                <a:latin typeface="Lucida Sans"/>
              </a:rPr>
              <a:t>c </a:t>
            </a:r>
            <a:r>
              <a:rPr b="0" lang="en-US" sz="2500" spc="-1" strike="noStrike">
                <a:solidFill>
                  <a:srgbClr val="cc0000"/>
                </a:solidFill>
                <a:latin typeface="Lucida Sans"/>
              </a:rPr>
              <a:t>in d</a:t>
            </a:r>
            <a:r>
              <a:rPr b="0" lang="en-US" sz="2500" spc="-1" strike="noStrike" baseline="-25000">
                <a:solidFill>
                  <a:srgbClr val="cc0000"/>
                </a:solidFill>
                <a:latin typeface="Lucida Sans"/>
              </a:rPr>
              <a:t>j</a:t>
            </a: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-31212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ojected query: q</a:t>
            </a:r>
            <a:r>
              <a:rPr b="0" lang="ja-JP" sz="28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ja-JP" sz="25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[c] = </a:t>
            </a:r>
            <a:r>
              <a:rPr b="0" lang="en-US" sz="2500" spc="-1" strike="noStrike">
                <a:solidFill>
                  <a:srgbClr val="cc0000"/>
                </a:solidFill>
                <a:latin typeface="Lucida Sans"/>
              </a:rPr>
              <a:t>strenght of concept </a:t>
            </a:r>
            <a:r>
              <a:rPr b="0" i="1" lang="en-US" sz="2500" spc="-1" strike="noStrike">
                <a:solidFill>
                  <a:srgbClr val="cc0000"/>
                </a:solidFill>
                <a:latin typeface="Lucida Sans"/>
              </a:rPr>
              <a:t>c </a:t>
            </a:r>
            <a:r>
              <a:rPr b="0" lang="en-US" sz="2500" spc="-1" strike="noStrike">
                <a:solidFill>
                  <a:srgbClr val="cc0000"/>
                </a:solidFill>
                <a:latin typeface="Lucida Sans"/>
              </a:rPr>
              <a:t>in q</a:t>
            </a: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0">
              <a:spcBef>
                <a:spcPts val="17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dom Projec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Rounded Rectangle 3"/>
          <p:cNvSpPr/>
          <p:nvPr/>
        </p:nvSpPr>
        <p:spPr>
          <a:xfrm>
            <a:off x="5796000" y="6308640"/>
            <a:ext cx="3348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Slides only 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n interesting math resul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810720" y="5661000"/>
            <a:ext cx="647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Lucida Sans"/>
              </a:rPr>
              <a:t>f() is called JL-embedd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Lucida Sans"/>
              </a:rPr>
              <a:t>Setting v=0 we also get a bound on f(u)’s stretching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539640" y="1775160"/>
            <a:ext cx="799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Lemma (Johnson-Linderstrauss, ‘8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t P be a set of n distinct points in m-dimension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iven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&gt; 0, there exists a function f : P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R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uch that for every pair of points u,v in P it hold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00000"/>
                </a:solidFill>
                <a:latin typeface="Tahoma"/>
              </a:rPr>
              <a:t>(1 - </a:t>
            </a:r>
            <a:r>
              <a:rPr b="0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) ||u - v||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≤ ||f(u) – f(v)||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≤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c00000"/>
                </a:solidFill>
                <a:latin typeface="Tahoma"/>
              </a:rPr>
              <a:t>(1 + </a:t>
            </a:r>
            <a:r>
              <a:rPr b="0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) ||u-v||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Where 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k = O(</a:t>
            </a:r>
            <a:r>
              <a:rPr b="0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-2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 log n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7704360" cy="40417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What about the </a:t>
            </a:r>
            <a:r>
              <a:rPr b="0" i="1" lang="it-IT" sz="3600" spc="-1" strike="noStrike">
                <a:solidFill>
                  <a:srgbClr val="000000"/>
                </a:solidFill>
                <a:latin typeface="Lucida Sans"/>
              </a:rPr>
              <a:t>cosine-distance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AutoShape 5"/>
          <p:cNvSpPr/>
          <p:nvPr/>
        </p:nvSpPr>
        <p:spPr>
          <a:xfrm rot="20432400">
            <a:off x="4788000" y="3141720"/>
            <a:ext cx="1224000" cy="360360"/>
          </a:xfrm>
          <a:prstGeom prst="leftArrow">
            <a:avLst>
              <a:gd name="adj1" fmla="val 50000"/>
              <a:gd name="adj2" fmla="val 84915"/>
            </a:avLst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6208560" y="2895480"/>
            <a:ext cx="21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f(u)’s, f(v)’s stretchin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AutoShape 5"/>
          <p:cNvSpPr/>
          <p:nvPr/>
        </p:nvSpPr>
        <p:spPr>
          <a:xfrm rot="20432400">
            <a:off x="4940280" y="4243320"/>
            <a:ext cx="1224000" cy="360360"/>
          </a:xfrm>
          <a:prstGeom prst="leftArrow">
            <a:avLst>
              <a:gd name="adj1" fmla="val 50000"/>
              <a:gd name="adj2" fmla="val 84915"/>
            </a:avLst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6123600" y="3997440"/>
            <a:ext cx="276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substituting formula abov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for  ||u-v||</a:t>
            </a:r>
            <a:r>
              <a:rPr b="0" lang="it-IT" sz="1600" spc="-1" strike="noStrike" baseline="30000">
                <a:solidFill>
                  <a:srgbClr val="3333cc"/>
                </a:solidFill>
                <a:latin typeface="Lucida Sans"/>
              </a:rPr>
              <a:t>2</a:t>
            </a: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324000" y="4076640"/>
            <a:ext cx="8424720" cy="2232000"/>
          </a:xfrm>
          <a:prstGeom prst="rect">
            <a:avLst/>
          </a:prstGeom>
          <a:solidFill>
            <a:srgbClr val="f0e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179280" y="2924280"/>
            <a:ext cx="8569440" cy="1728720"/>
          </a:xfrm>
          <a:prstGeom prst="rect">
            <a:avLst/>
          </a:prstGeom>
          <a:solidFill>
            <a:srgbClr val="f0e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How to compute a JL-embedding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rcRect l="0" t="30615" r="0" b="0"/>
          <a:stretch/>
        </p:blipFill>
        <p:spPr>
          <a:xfrm>
            <a:off x="468360" y="2924280"/>
            <a:ext cx="8064360" cy="244944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2"/>
          <p:cNvGrpSpPr/>
          <p:nvPr/>
        </p:nvGrpSpPr>
        <p:grpSpPr>
          <a:xfrm>
            <a:off x="2808360" y="5516640"/>
            <a:ext cx="2802600" cy="1233000"/>
            <a:chOff x="2808360" y="5516640"/>
            <a:chExt cx="2802600" cy="1233000"/>
          </a:xfrm>
        </p:grpSpPr>
        <p:sp>
          <p:nvSpPr>
            <p:cNvPr id="184" name="AutoShape 8"/>
            <p:cNvSpPr/>
            <p:nvPr/>
          </p:nvSpPr>
          <p:spPr>
            <a:xfrm>
              <a:off x="2808360" y="5589360"/>
              <a:ext cx="1150920" cy="1080720"/>
            </a:xfrm>
            <a:prstGeom prst="rightArrow">
              <a:avLst>
                <a:gd name="adj1" fmla="val 50000"/>
                <a:gd name="adj2" fmla="val 26624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4217040" y="5516640"/>
              <a:ext cx="1393920" cy="12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E[r</a:t>
              </a:r>
              <a:r>
                <a:rPr b="0" lang="it-IT" sz="2000" spc="-1" strike="noStrike" baseline="-38000">
                  <a:solidFill>
                    <a:srgbClr val="000000"/>
                  </a:solidFill>
                  <a:latin typeface="Lucida Sans"/>
                </a:rPr>
                <a:t>i,j</a:t>
              </a: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] = 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Var[r</a:t>
              </a:r>
              <a:r>
                <a:rPr b="0" lang="it-IT" sz="2000" spc="-1" strike="noStrike" baseline="-38000">
                  <a:solidFill>
                    <a:srgbClr val="000000"/>
                  </a:solidFill>
                  <a:latin typeface="Lucida Sans"/>
                </a:rPr>
                <a:t>i,j</a:t>
              </a: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] = 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86" name="Rectangle 3"/>
          <p:cNvSpPr/>
          <p:nvPr/>
        </p:nvSpPr>
        <p:spPr>
          <a:xfrm>
            <a:off x="539640" y="1608120"/>
            <a:ext cx="7991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we set R = r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i,j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o be a random m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k matrix, where the components are independent random variables with one of the following distribut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inally..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539640" y="1791720"/>
            <a:ext cx="799164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SzPct val="105000"/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Random projections hide large constan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k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1/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2 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* log m, so it may be large…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t is simple and fast to compu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571680" y="3564720"/>
            <a:ext cx="799128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SzPct val="105000"/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LSI is intuitive and may scale to any 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ptimal under various metri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ut costly to compute, now good libraries inde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peeding up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cosine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computa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we could take our vectors and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ack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em into fewer dimensions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(say 50,000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100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hile preserving distance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Now, O(nm) to compute cos(d,q) for all 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hen, O(km+kn) where k &lt;&lt; n,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method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tent semantic indexing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andom projec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riefl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SI is data-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dependen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a k-dim subspace by eliminating redundant ax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ull together 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lated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xes – hopefull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andom projection is data-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independen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oose a k-dim subspace that guarantees good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stretching properties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with high probability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tween any pair of point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5580000" y="3456000"/>
            <a:ext cx="3348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What about polysemy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tions from linear algebr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trix A, vector v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trix transpose (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trix produc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an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igenvalue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eigenvector v: Av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verview of LS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-process docs using a technique from linear algebra call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Singular Value Decomposi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reate a new (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mall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vector spa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ies handled (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fast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in this new spa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ingular-Value Decompos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matrix of term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docs,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has rank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,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276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fine 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term-ter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rrelation matrix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=AA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s a square, symmetric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tri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t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b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matrix of eigenvector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fine 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doc-do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rrelation matrix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=A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s a square, symmetric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tri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t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b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matrix of eigenvector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 decompos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for T,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r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for D,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r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formed by orthonormal columns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unit dot-product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t turns out that </a:t>
            </a:r>
            <a:r>
              <a:rPr b="0" i="1" lang="en-US" sz="3400" spc="-1" strike="noStrike">
                <a:solidFill>
                  <a:srgbClr val="000000"/>
                </a:solidFill>
                <a:latin typeface="Lucida Sans"/>
              </a:rPr>
              <a:t>A = P</a:t>
            </a:r>
            <a:r>
              <a:rPr b="0" i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4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i="1" lang="en-US" sz="3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diagona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trix with the eigenvalues of T=A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 decreasing order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1547640" y="3068640"/>
          <a:ext cx="6172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068640"/>
                    <a:ext cx="61722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5"/>
          <p:cNvSpPr/>
          <p:nvPr/>
        </p:nvSpPr>
        <p:spPr>
          <a:xfrm>
            <a:off x="3566880" y="5091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58640" y="62578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203360" y="61848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321520" y="5986440"/>
            <a:ext cx="4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6727320" y="5824440"/>
            <a:ext cx="4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2117520" y="5049720"/>
            <a:ext cx="6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074120" y="50497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5007240" y="5157720"/>
            <a:ext cx="5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6582600" y="5049720"/>
            <a:ext cx="6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8"/>
          <p:cNvSpPr/>
          <p:nvPr/>
        </p:nvSpPr>
        <p:spPr>
          <a:xfrm>
            <a:off x="5219640" y="4941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5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r som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zero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ll but th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iggest eigenvalues i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1800" spc="-1" strike="noStrike">
                <a:solidFill>
                  <a:srgbClr val="a40508"/>
                </a:solidFill>
                <a:latin typeface="Comic Sans MS"/>
              </a:rPr>
              <a:t>[choice of k is crucial]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Denote by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this new version of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, having rank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Typically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is about 100, while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(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ja-JP" sz="1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s rank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) is &gt; 10,000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9" name="Object 2"/>
          <p:cNvGraphicFramePr/>
          <p:nvPr/>
        </p:nvGraphicFramePr>
        <p:xfrm>
          <a:off x="1476360" y="1981080"/>
          <a:ext cx="6172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81080"/>
                    <a:ext cx="61722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6"/>
          <p:cNvSpPr/>
          <p:nvPr/>
        </p:nvSpPr>
        <p:spPr>
          <a:xfrm>
            <a:off x="3495600" y="40035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132080" y="50259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5257800" y="4898880"/>
            <a:ext cx="52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6651000" y="4906800"/>
            <a:ext cx="4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mensionality red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194920" y="5097600"/>
            <a:ext cx="532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7" name="Group 38"/>
          <p:cNvGrpSpPr/>
          <p:nvPr/>
        </p:nvGrpSpPr>
        <p:grpSpPr>
          <a:xfrm>
            <a:off x="2124000" y="3429000"/>
            <a:ext cx="1425240" cy="1720800"/>
            <a:chOff x="2124000" y="3429000"/>
            <a:chExt cx="1425240" cy="1720800"/>
          </a:xfrm>
        </p:grpSpPr>
        <p:sp>
          <p:nvSpPr>
            <p:cNvPr id="128" name="Rectangle 14"/>
            <p:cNvSpPr/>
            <p:nvPr/>
          </p:nvSpPr>
          <p:spPr>
            <a:xfrm>
              <a:off x="2124000" y="3708360"/>
              <a:ext cx="287280" cy="1441440"/>
            </a:xfrm>
            <a:prstGeom prst="rect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AutoShape 15"/>
            <p:cNvSpPr/>
            <p:nvPr/>
          </p:nvSpPr>
          <p:spPr>
            <a:xfrm rot="10800000">
              <a:off x="2195280" y="3573000"/>
              <a:ext cx="215640" cy="360360"/>
            </a:xfrm>
            <a:custGeom>
              <a:avLst/>
              <a:gdLst>
                <a:gd name="textAreaLeft" fmla="*/ 0 w 215640"/>
                <a:gd name="textAreaRight" fmla="*/ 185760 w 215640"/>
                <a:gd name="textAreaTop" fmla="*/ 30816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53" y="0"/>
                  </a:moveTo>
                  <a:lnTo>
                    <a:pt x="12706" y="7200"/>
                  </a:lnTo>
                  <a:lnTo>
                    <a:pt x="15792" y="7200"/>
                  </a:lnTo>
                  <a:lnTo>
                    <a:pt x="15792" y="18424"/>
                  </a:lnTo>
                  <a:lnTo>
                    <a:pt x="0" y="18424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7153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Text Box 17"/>
            <p:cNvSpPr/>
            <p:nvPr/>
          </p:nvSpPr>
          <p:spPr>
            <a:xfrm>
              <a:off x="2514960" y="342900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a000"/>
                  </a:solidFill>
                  <a:latin typeface="Lucida Sans"/>
                </a:rPr>
                <a:t>document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1" name="Group 37"/>
          <p:cNvGrpSpPr/>
          <p:nvPr/>
        </p:nvGrpSpPr>
        <p:grpSpPr>
          <a:xfrm>
            <a:off x="4643280" y="4508280"/>
            <a:ext cx="4313880" cy="1622520"/>
            <a:chOff x="4643280" y="4508280"/>
            <a:chExt cx="4313880" cy="1622520"/>
          </a:xfrm>
        </p:grpSpPr>
        <p:sp>
          <p:nvSpPr>
            <p:cNvPr id="132" name="Line 20"/>
            <p:cNvSpPr/>
            <p:nvPr/>
          </p:nvSpPr>
          <p:spPr>
            <a:xfrm flipH="1" flipV="1">
              <a:off x="4643280" y="4797000"/>
              <a:ext cx="1152720" cy="1079640"/>
            </a:xfrm>
            <a:prstGeom prst="line">
              <a:avLst/>
            </a:prstGeom>
            <a:ln w="28440">
              <a:solidFill>
                <a:srgbClr val="00a000"/>
              </a:solidFill>
              <a:prstDash val="lgDashDot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 flipV="1">
              <a:off x="5796000" y="4508280"/>
              <a:ext cx="936720" cy="1368360"/>
            </a:xfrm>
            <a:prstGeom prst="line">
              <a:avLst/>
            </a:prstGeom>
            <a:ln w="28440">
              <a:solidFill>
                <a:srgbClr val="00a000"/>
              </a:solidFill>
              <a:prstDash val="lgDashDot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Text Box 22"/>
            <p:cNvSpPr/>
            <p:nvPr/>
          </p:nvSpPr>
          <p:spPr>
            <a:xfrm>
              <a:off x="5803200" y="5732640"/>
              <a:ext cx="315396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a000"/>
                  </a:solidFill>
                  <a:latin typeface="Lucida Sans"/>
                </a:rPr>
                <a:t>useless due to 0-col/0-row of </a:t>
              </a:r>
              <a:r>
                <a:rPr b="0" lang="it-IT" sz="1600" spc="-1" strike="noStrike">
                  <a:solidFill>
                    <a:srgbClr val="00a000"/>
                  </a:solidFill>
                  <a:latin typeface="Symbol"/>
                  <a:ea typeface="Symbol"/>
                </a:rPr>
                <a:t></a:t>
              </a:r>
              <a:r>
                <a:rPr b="0" lang="it-IT" sz="1600" spc="-1" strike="noStrike" baseline="-25000">
                  <a:solidFill>
                    <a:srgbClr val="00a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5" name="Rectangle 27"/>
          <p:cNvSpPr/>
          <p:nvPr/>
        </p:nvSpPr>
        <p:spPr>
          <a:xfrm>
            <a:off x="4314240" y="5353200"/>
            <a:ext cx="64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m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x r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Rectangle 28"/>
          <p:cNvSpPr/>
          <p:nvPr/>
        </p:nvSpPr>
        <p:spPr>
          <a:xfrm>
            <a:off x="6973200" y="522936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r x n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29"/>
          <p:cNvSpPr/>
          <p:nvPr/>
        </p:nvSpPr>
        <p:spPr>
          <a:xfrm>
            <a:off x="5293800" y="4653000"/>
            <a:ext cx="2646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8" name="Group 36"/>
          <p:cNvGrpSpPr/>
          <p:nvPr/>
        </p:nvGrpSpPr>
        <p:grpSpPr>
          <a:xfrm>
            <a:off x="6012000" y="3716280"/>
            <a:ext cx="1619280" cy="936720"/>
            <a:chOff x="6012000" y="3716280"/>
            <a:chExt cx="1619280" cy="936720"/>
          </a:xfrm>
        </p:grpSpPr>
        <p:sp>
          <p:nvSpPr>
            <p:cNvPr id="139" name="Rectangle 19"/>
            <p:cNvSpPr/>
            <p:nvPr/>
          </p:nvSpPr>
          <p:spPr>
            <a:xfrm>
              <a:off x="6012000" y="4365720"/>
              <a:ext cx="1619280" cy="287280"/>
            </a:xfrm>
            <a:prstGeom prst="rect">
              <a:avLst/>
            </a:prstGeom>
            <a:solidFill>
              <a:srgbClr val="80808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6018840" y="386064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Line 32"/>
            <p:cNvSpPr/>
            <p:nvPr/>
          </p:nvSpPr>
          <p:spPr>
            <a:xfrm>
              <a:off x="6300720" y="371628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2" name="Group 35"/>
          <p:cNvGrpSpPr/>
          <p:nvPr/>
        </p:nvGrpSpPr>
        <p:grpSpPr>
          <a:xfrm>
            <a:off x="3995640" y="3645000"/>
            <a:ext cx="792360" cy="1487520"/>
            <a:chOff x="3995640" y="3645000"/>
            <a:chExt cx="792360" cy="1487520"/>
          </a:xfrm>
        </p:grpSpPr>
        <p:sp>
          <p:nvSpPr>
            <p:cNvPr id="143" name="Rectangle 18"/>
            <p:cNvSpPr/>
            <p:nvPr/>
          </p:nvSpPr>
          <p:spPr>
            <a:xfrm>
              <a:off x="4500720" y="3691080"/>
              <a:ext cx="287280" cy="1441440"/>
            </a:xfrm>
            <a:prstGeom prst="rect">
              <a:avLst/>
            </a:prstGeom>
            <a:solidFill>
              <a:srgbClr val="80808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Rectangle 30"/>
            <p:cNvSpPr/>
            <p:nvPr/>
          </p:nvSpPr>
          <p:spPr>
            <a:xfrm>
              <a:off x="4074120" y="364500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3995640" y="39085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6" name="Line 34"/>
          <p:cNvSpPr/>
          <p:nvPr/>
        </p:nvSpPr>
        <p:spPr>
          <a:xfrm>
            <a:off x="5003640" y="4724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7" name="Group 39"/>
          <p:cNvGrpSpPr/>
          <p:nvPr/>
        </p:nvGrpSpPr>
        <p:grpSpPr>
          <a:xfrm>
            <a:off x="5003640" y="3716280"/>
            <a:ext cx="792360" cy="936720"/>
            <a:chOff x="5003640" y="3716280"/>
            <a:chExt cx="792360" cy="936720"/>
          </a:xfrm>
        </p:grpSpPr>
        <p:sp>
          <p:nvSpPr>
            <p:cNvPr id="148" name="Rectangle 23"/>
            <p:cNvSpPr/>
            <p:nvPr/>
          </p:nvSpPr>
          <p:spPr>
            <a:xfrm>
              <a:off x="5508720" y="3716280"/>
              <a:ext cx="287280" cy="936720"/>
            </a:xfrm>
            <a:prstGeom prst="rect">
              <a:avLst/>
            </a:prstGeom>
            <a:solidFill>
              <a:srgbClr val="ccff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Rectangle 24"/>
            <p:cNvSpPr/>
            <p:nvPr/>
          </p:nvSpPr>
          <p:spPr>
            <a:xfrm>
              <a:off x="5003640" y="4365720"/>
              <a:ext cx="792360" cy="287280"/>
            </a:xfrm>
            <a:prstGeom prst="rect">
              <a:avLst/>
            </a:prstGeom>
            <a:solidFill>
              <a:srgbClr val="ccff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Line 25"/>
            <p:cNvSpPr/>
            <p:nvPr/>
          </p:nvSpPr>
          <p:spPr>
            <a:xfrm>
              <a:off x="5003640" y="3716280"/>
              <a:ext cx="505080" cy="649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Rectangle 26"/>
            <p:cNvSpPr/>
            <p:nvPr/>
          </p:nvSpPr>
          <p:spPr>
            <a:xfrm>
              <a:off x="5229720" y="3789360"/>
              <a:ext cx="2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2" name="Group 40"/>
          <p:cNvGrpSpPr/>
          <p:nvPr/>
        </p:nvGrpSpPr>
        <p:grpSpPr>
          <a:xfrm>
            <a:off x="5077800" y="3789360"/>
            <a:ext cx="740880" cy="902160"/>
            <a:chOff x="5077800" y="3789360"/>
            <a:chExt cx="740880" cy="902160"/>
          </a:xfrm>
        </p:grpSpPr>
        <p:sp>
          <p:nvSpPr>
            <p:cNvPr id="153" name="Text Box 11"/>
            <p:cNvSpPr/>
            <p:nvPr/>
          </p:nvSpPr>
          <p:spPr>
            <a:xfrm>
              <a:off x="5509800" y="4292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5077800" y="4292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5509800" y="3789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6" name="Text Box 46"/>
          <p:cNvSpPr/>
          <p:nvPr/>
        </p:nvSpPr>
        <p:spPr>
          <a:xfrm>
            <a:off x="2196720" y="5084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Rectangle 52"/>
          <p:cNvSpPr/>
          <p:nvPr/>
        </p:nvSpPr>
        <p:spPr>
          <a:xfrm>
            <a:off x="4318560" y="5361120"/>
            <a:ext cx="66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m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x k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Rectangle 53"/>
          <p:cNvSpPr/>
          <p:nvPr/>
        </p:nvSpPr>
        <p:spPr>
          <a:xfrm>
            <a:off x="6977160" y="522936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k x n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uarante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4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37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s a pretty good approximation to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elative distances are (approximately) preserv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f all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matrices of rank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s the best approximation to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 wrt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 following measures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B, rank(B)=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||A-B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= ||A-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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40000"/>
              </a:lnSpc>
              <a:spcBef>
                <a:spcPts val="125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B, rank(B)=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||A-B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||A-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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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+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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2625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robenius norm 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||A||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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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4-11-28T07:27:27Z</dcterms:modified>
  <cp:revision>1199</cp:revision>
  <dc:subject/>
  <dc:title>Web Algorithmics</dc:title>
</cp:coreProperties>
</file>